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961-69CF-49F3-A0BB-B5853AF2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250-0D52-4537-AEA8-AF13A89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5A7-8E3D-412E-A858-65A65CB9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266-D2AD-42A6-959F-E028AE96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DC2-1600-4BD2-A14A-4E5CA472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D27-773C-491C-B196-30AEAB9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ABF-0B8E-4606-91CC-79C18161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C95-1777-4128-B97D-C83F514B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4E6-8511-47D9-9733-09D6657D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670-0030-47A1-A805-5B8CDB3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5E5-41DA-46B5-A916-4F8EC4F2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F62-FC58-4BC1-B2AF-1484871A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210F-CA5C-4F75-9FEC-1E64B9D45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533520"/>
            <a:ext cx="845820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Fighting the Virus:hiv/aids in Africa</a:t>
            </a:r>
            <a:endParaRPr b="1" i="1" lang="en-US" sz="2400" spc="1" strike="noStrike">
              <a:ln w="0">
                <a:noFill/>
              </a:ln>
              <a:solidFill>
                <a:srgbClr val="33cc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19320"/>
            <a:ext cx="5791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rica_pol01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5910480" cy="6724800"/>
          </a:xfrm>
          <a:prstGeom prst="rect">
            <a:avLst/>
          </a:prstGeom>
          <a:ln w="0">
            <a:noFill/>
          </a:ln>
        </p:spPr>
      </p:pic>
      <p:pic>
        <p:nvPicPr>
          <p:cNvPr id="44" name="finallogo" descr=""/>
          <p:cNvPicPr/>
          <p:nvPr/>
        </p:nvPicPr>
        <p:blipFill>
          <a:blip r:embed="rId2"/>
          <a:stretch/>
        </p:blipFill>
        <p:spPr>
          <a:xfrm>
            <a:off x="0" y="380880"/>
            <a:ext cx="254952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905120"/>
            <a:ext cx="297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ading in by telling the students how serious the situation of HIV  is in 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ask 1 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learn to comp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all the numbers and the related events compare the situation in Africa with tha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43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276720"/>
          <a:ext cx="9144000" cy="2862000"/>
        </p:xfrm>
        <a:graphic>
          <a:graphicData uri="http://schemas.openxmlformats.org/drawingml/2006/table">
            <a:tbl>
              <a:tblPr/>
              <a:tblGrid>
                <a:gridCol w="2316240"/>
                <a:gridCol w="682776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 people were living with HIV or AIDS in 2002//27 million in sub-Saharan are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 were children//2 million children in Afri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6216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We will show your diagram on the proj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sub-Saharan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0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suffer the 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952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news and challe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943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can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447920"/>
            <a:ext cx="2209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572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2 paragraph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90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at least one question for each paragraph for your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Task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U686P1T1D5080913F21DT20041201100717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5143320" cy="3178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6019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Hu visits aids patients in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4 Language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4876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 of thousa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se numbers were to grow, the future of Africa might be in d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76201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7244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9" h="21600">
                <a:moveTo>
                  <a:pt x="19089" y="3794"/>
                </a:moveTo>
                <a:lnTo>
                  <a:pt x="19089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6019920" y="60199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9263" y="10800"/>
                </a:moveTo>
                <a:lnTo>
                  <a:pt x="19768" y="3794"/>
                </a:lnTo>
                <a:lnTo>
                  <a:pt x="19768" y="17806"/>
                </a:lnTo>
                <a:close/>
              </a:path>
              <a:path fill="darken" w="25523" h="21600">
                <a:moveTo>
                  <a:pt x="5755" y="3794"/>
                </a:moveTo>
                <a:lnTo>
                  <a:pt x="7417" y="3794"/>
                </a:lnTo>
                <a:lnTo>
                  <a:pt x="7417" y="17806"/>
                </a:lnTo>
                <a:lnTo>
                  <a:pt x="57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75438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Car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Keep the disease a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The good news is that it is still not too late to protect… agains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The fight agains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victims of the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t seams unlikely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 Hope for/in the hope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7:06:54Z</dcterms:created>
  <dc:creator>郭学宝</dc:creator>
  <dc:description/>
  <dc:language>en-US</dc:language>
  <cp:lastModifiedBy>郭学宝</cp:lastModifiedBy>
  <dcterms:modified xsi:type="dcterms:W3CDTF">2004-12-02T02:07:15Z</dcterms:modified>
  <cp:revision>16</cp:revision>
  <dc:subject/>
  <dc:title>PowerPoint 演示文稿</dc:title>
</cp:coreProperties>
</file>